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C523-BB05-4063-9EB8-798C950E1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9363-BF3E-41CD-96F0-A65A4F4C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AF21-8F2E-4E30-A63C-63EA3721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8F0A-2B02-484B-9799-0EF255B83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6B41-7531-4238-8B84-149A5E2D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B23E-71B1-408E-A661-3F8EC9AC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A89C-CE6A-445D-A61B-434B18A7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F936-EBA9-452E-9B3F-53610DCE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EE99-6CA8-49EE-B2A5-977C26F0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9344-6504-4395-9270-7BAE3AFF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44A5-205E-4A1E-B6E9-C432B396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AC23-01E1-4E93-9F2B-B6D1C024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6ACF-487F-4CAE-B8E6-4D7F6B353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77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Amerikan Doğayı Koruma kuruluşlarının araştırmalarına göre dünyada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lasti</a:t>
            </a: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k torba kullanım adedi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yılda yaklaşık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500</a:t>
            </a: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 m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l</a:t>
            </a: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n </a:t>
            </a: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ile 1 trilyon adet arası değişmektedi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3600"/>
            </a:b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ional Geographic News September 2,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nun içindir ki,Kuzey kutbunda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itzbergen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yakınlarınd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güneyd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lkland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dalarına kadar geniş bir çevrede, denizde yüzeyinde sık sık plastik torbalara rastlan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0" y="2743200"/>
            <a:ext cx="4724280" cy="3335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British Antarctic Surv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pollution.jpg"/>
          <p:cNvPicPr/>
          <p:nvPr/>
        </p:nvPicPr>
        <p:blipFill>
          <a:blip r:embed="rId1"/>
          <a:stretch/>
        </p:blipFill>
        <p:spPr>
          <a:xfrm>
            <a:off x="1752480" y="2133720"/>
            <a:ext cx="5562720" cy="4171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52280"/>
            <a:ext cx="83059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Plastik torbalar, Amerikan sahillerinden toplanan atıkların %10’unu teşkil etmekted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National Marine Debris Monitoring 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152280"/>
            <a:ext cx="83059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şık, plastik torbalarda kimyasal çözümlemelere neden olur.  </a:t>
            </a:r>
            <a:br>
              <a:rPr sz="3200"/>
            </a:b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Zaman içinde daha küçük ancak daha zehirli petro-polimerlere bölünürler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CNN.com/tecnhology November 16, 200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411480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152280"/>
            <a:ext cx="83059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Ve... bunlar da topraklarımızı ve sularımızı zehirl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553080" cy="4465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CNN.com/tecnhology November 16, 2007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324480" cy="4749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Sonuçta, bu mikroskopik partiküller besin zincirine gir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CNN.com/tecnhology November 16, 2007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8153640" cy="5427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2860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İşte o zaman doğal hayatın geleceği enikonu tehlikeded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World Wildlife Fund Report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152280"/>
            <a:ext cx="8305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alina, yunus, fok, deniz kaplumbağalarından başlayarak yaklaşı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200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farklı deniz canlısı, plastik torbalar nedeni ile hayatını kaybe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World Wildlife Fund Report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800600" y="2438280"/>
            <a:ext cx="4025880" cy="3797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The minke whale carcase at Scalloway marina on Monday morning. Photo: Jim Nicolson"/>
          <p:cNvPicPr/>
          <p:nvPr/>
        </p:nvPicPr>
        <p:blipFill>
          <a:blip r:embed="rId2"/>
          <a:stretch/>
        </p:blipFill>
        <p:spPr>
          <a:xfrm>
            <a:off x="457200" y="2971800"/>
            <a:ext cx="403848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5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3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2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2" dur="2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3" dur="2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4" dur="21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700"/>
                            </p:stCondLst>
                            <p:childTnLst>
                              <p:par>
                                <p:cTn id="2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925040" cy="5244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7200" y="1522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Kuşlar boğulur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World Wildlife Fund Report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724280" y="609480"/>
            <a:ext cx="4100760" cy="5639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3879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610480" cy="4836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Besin sanarak yuttukları plastiği hazmedemeyen kaplumbağalar ölü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World Wildlife Fund Report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torbaların geri dönüştürülen miktarı ancak %1dir. Bir torbanın geri kazanımı, yenisini üretmekten kat kat pahalı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9880" y="6095880"/>
            <a:ext cx="5105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Christian Science Monitor News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71800" y="22096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Tahoma"/>
              </a:rPr>
              <a:t>Öyleyse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2362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Tahoma"/>
              </a:rPr>
              <a:t>Çözüm?????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181840" cy="5181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ez torba kullanmakl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br>
              <a:rPr sz="3200"/>
            </a:b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haftada 6 plastik torbayı kullanımdan çıkartmış oluru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Tahoma"/>
              </a:rPr>
              <a:t>Bu da ayda 24 torba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55308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Tahoma"/>
              </a:rPr>
              <a:t>Yılda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88 </a:t>
            </a:r>
            <a:r>
              <a:rPr b="0" lang="tr-TR" sz="4400" spc="-1" strike="noStrike">
                <a:solidFill>
                  <a:srgbClr val="ffffff"/>
                </a:solidFill>
                <a:latin typeface="Tahoma"/>
              </a:rPr>
              <a:t>torba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Ortalama bir yaşam süresinc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de,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2,176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 torba ed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92468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639040" cy="41511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8224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Ülkemizde her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tr-TR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kişiden sadec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tr-TR" sz="36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 bunu yapsa, yaşamımız süresince 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31.046.400.000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plastik torba kullanımdan kalkmış ol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3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5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angladesh 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plastik torba kullanımını yasaklamıştı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MSNBC.com March 8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4771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000"/>
                            </p:stCondLst>
                            <p:childTnLst>
                              <p:par>
                                <p:cTn id="45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Tahoma"/>
              </a:rPr>
              <a:t>Çin, kullanımını paralı yapmıştı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CNN.com/asia January 9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38280" y="3124080"/>
            <a:ext cx="4191120" cy="28479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r</a:t>
            </a: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landa, Avrupa’da bir ilk olarak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, 2002</a:t>
            </a: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’de plastik torbaları vergilendirdi.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Bugüne kadar plastik torba kullanımında %90 azalma kaydedildi.</a:t>
            </a:r>
            <a:r>
              <a:rPr b="0" lang="tr-TR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BBC News August 20,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000"/>
                            </p:stCondLst>
                            <p:childTnLst>
                              <p:par>
                                <p:cTn id="5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400800" cy="4255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005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’te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Rwanda </a:t>
            </a:r>
            <a:br>
              <a:rPr sz="4000"/>
            </a:b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plastik torba kullanımını yasaklad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6400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ssociated 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4000"/>
                            </p:stCondLst>
                            <p:childTnLst>
                              <p:par>
                                <p:cTn id="5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Geri dönüşüm projelerince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 ton plasti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torbanın işlenme ve dönüşümü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4,000 $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’a mal olurken, bunların bilahare yeni olarak marketlere satışı sadec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32 $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 dı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1920" y="4572000"/>
            <a:ext cx="808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- Jared Blumenfeld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(Director of San Francisco's Department of the Environm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00400" y="2743200"/>
            <a:ext cx="3330720" cy="3505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ra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,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da,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atı Hindist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Botswana, Kenya, Tanzania,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Güne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fri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, Taiwan,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ingap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’d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se, yasaklandı ya da yasaklanma yolunda adımlar atıld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PlanetSave.com February 16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32000" y="3200400"/>
            <a:ext cx="3084480" cy="36576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7 Mar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2007, San Francisco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 Amerika’da plastik torba kullanımını ilk yasaklayan şehir old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6400800"/>
            <a:ext cx="358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NPR.org (National Public Rad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500"/>
                            </p:stCondLst>
                            <p:childTnLst>
                              <p:par>
                                <p:cTn id="5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akland 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ve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Boston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 yasaklama yolundal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648320" cy="46483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The Boston Globe May 20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4000"/>
                            </p:stCondLst>
                            <p:childTnLst>
                              <p:par>
                                <p:cTn id="5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867640" cy="44006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lasti</a:t>
            </a: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alışveriş torbaları, petrol türevi bir termoplastik olan polietilen mamulüdür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CNN.com/tecnhology November 16,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0"/>
                            </p:stCondLst>
                            <p:childTnLst>
                              <p:par>
                                <p:cTn id="6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638680" y="1981080"/>
            <a:ext cx="3086280" cy="32004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Dolayısile plastik torba kullanımındaki azalma, bir ülkenin dışa olan bağımlılığında da bir azalma demektir.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487692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76520" y="930240"/>
            <a:ext cx="5943600" cy="59277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Çin, sadece torbaları paralı yapmakla, her yıl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7 mil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yon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fıçı petrol tasarruf edece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CNN.com/asia January 9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6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6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700360" y="1704960"/>
            <a:ext cx="3732120" cy="49719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Demek ki...bir şeyler yapmak mümkün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56440" y="324648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29970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Tahoma"/>
              </a:rPr>
              <a:t>Öyleyse, bunca torba nereye gidiyor??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4952880" cy="3718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304920"/>
            <a:ext cx="83818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75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teki bir araştırmaya gör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okyanuslarda dolaşan gemiler yılda yaklaşık 3.700.000kg. plastik torbayı denizlere boşaltırlar.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Dünya yüzeyi henüz bir plastik çöplüğüne dönmemişse, bunun nedeni denizlerin dibinin çöplük olarak kullanılması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U.S. National Academy of Sci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56000" y="333360"/>
            <a:ext cx="4378320" cy="5257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133720" y="5715000"/>
            <a:ext cx="541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Doğaya bırakılan torbaları rüzgar uçurarak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95280" y="594360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En ücra noktalara kadar ulaştırı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5328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858000" cy="4294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Tahoma"/>
              </a:rPr>
              <a:t>Izgaralardan sızarak kanalizasyon yolu ile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CNN.com/tecnhology November 16,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38080" y="6019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deniz, göl ve nehirlere varır.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00:08Z</dcterms:created>
  <dc:creator>hP</dc:creator>
  <dc:description/>
  <cp:keywords/>
  <dc:language>en-US</dc:language>
  <cp:lastModifiedBy>hP</cp:lastModifiedBy>
  <dcterms:modified xsi:type="dcterms:W3CDTF">2008-06-03T13:11:46Z</dcterms:modified>
  <cp:revision>2</cp:revision>
  <dc:subject/>
  <dc:title>Amerikan Doğayı Koruma kuruluşlarının araştırmalarına göre dünyada plastik torba kullanım adedi yılda yaklaşık 500 milyon ile 1 trilyon adet arası değişmektedir.  National Geographic News September 2, 2003</dc:title>
</cp:coreProperties>
</file>